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CC2-BC77-4940-A6A3-8C802C9D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6FD-C292-4671-9C13-9E4C47AD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AE94B-B538-474A-AEE7-B6504335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6C033-4022-48C4-BEBC-0D70BD40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A9A90-78FA-4D7A-B56A-C5D3F699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45BDB-FC73-4E8D-8A6A-B1666DF0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41E20-0AA9-4B82-B36F-E074C3CE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7D5D9-F7DD-4ED9-8D56-16750A1C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60398-E0BB-4E27-9C07-12872E1D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90E22-B5A2-4B83-A469-8EA2076D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FC8D5-EED2-4FBA-BB87-890D679C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A8965-0EF1-4D5A-94D1-E094B88F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4B2-1A31-443D-A723-19DAF745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9215E-7CA1-4C96-B45E-F29B7694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30821-1B0C-4F22-BA67-F0AFA6E5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5BA48-287B-488F-8B56-0846F1FA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DB1BD-B792-4C8B-AEA2-DBBFEC0B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FD097-DFB6-4F48-8A61-700AB8F4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4F573-F869-4611-AFCD-2FAD7C6A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B125C-8B07-4AA9-BE3B-62A7DB80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6EB71-B514-479C-8390-704FA220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9A4F6-FE20-4D45-98B4-5395075C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D50D6-93A6-472F-B80D-D8609E77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770-8DEF-4AF7-87E1-1BAFFD7F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E55A7-4F41-4D49-82D7-8A039E8A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5F0EA-7B2B-49BA-82CC-E35A2D6A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E311E-D5F0-41E7-9586-5E337BDE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BE3E3-C3C5-4B1A-A392-9EAD3966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3465C-E8EB-4D82-B8A9-4B628E5C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7733B-8717-43DF-9FE9-12342299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4C12A-CCFD-4D6D-8022-83DAD270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9754E-F81E-40E2-B68A-4835442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28CA9-FEF2-4C44-99B4-C70E59F1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DE435-80B1-470A-8C8A-36D60186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B947-12EB-46FF-8AB2-06243307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70F6A-5113-4803-A253-D57DCC16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4302B-2C36-4736-B06A-F9014BC2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51FD5-85BA-4C2F-BA1E-7649B758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00A4E-6339-49EC-A657-94A9F07E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C841A-C52C-4A03-B69D-7B490F1C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7A1F6-8297-4A23-BC28-5F6F8C42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6768A-0F21-4736-8E9D-1B9B7035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B3DBD-02A6-4544-9380-AE6D48A6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EDFEA-3D78-427F-8398-A345966C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2A29F-5FC9-4E8B-AF9C-F0AF0C71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77F3-B91F-4A23-8D94-F818DA8E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AA53B-E2DC-4B59-AE9E-2E81AE9D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77357-80C6-45DC-98EB-13A2D94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38A3A-C6F7-4973-9311-0A31E801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63E93-C163-4C9D-9107-7BD08C19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B67EF-8820-46FD-92EF-3C42C2F7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A9EB2-6B9F-4E86-AF4D-2A8214B0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B26D3-0B16-4C62-9CED-3B8DFBAD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F85A9-03DC-44D9-BED3-1471C895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971BB-A63F-4BFC-9C39-0A04C066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0E0CB-682A-479C-AC3E-EE2915AC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19FF-8166-47AE-B0F1-3938FF6C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B3C87-F3D8-489B-B45D-CCC5FC31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A7E75-D0E8-49BD-A13B-81A13082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E20DC-BB52-4ABA-BB01-DB71D1AF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35C0B-B838-4C13-B083-1C4441B3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3A0B5-D35F-4FA8-B5EE-E1B5B9FB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4A3A4-DD83-4A74-B216-127C88EA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62EC0-D681-49E2-9677-B848BA0B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C728D-6697-480F-AED0-04EF8D2F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82248-C7F1-4F8D-9F47-652AAE70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E9D8C-3B95-4786-A3D0-00E0AE20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32D4-0DFB-4291-99FB-F913F2DB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4C64B-8DBB-4E2E-A141-2F717602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1FF3B-8506-4854-A69B-0D455682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913EA-171E-43D9-9DF7-6CDB6EC4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950C9-92B4-4A60-87AF-B488F09A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A59FD-C15A-4555-9A01-B0A12127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885C7-6288-485A-80D0-B385B0F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6222B-F72A-4E50-B874-B9431B0D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F7580-82B0-44AD-8079-BB2F9DB6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589ED-112E-45EB-AC66-F342A13C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1A194-8924-4A5D-A61C-C140E36D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FDDF-B9FB-40C7-8EEC-3263F188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FD969-7AEC-459B-B6CF-258360D5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39CFF-87E7-4648-B5BB-3F72846F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432541-5B3A-4455-9694-7E0F32DF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6AF62-DCB6-403B-9773-0A1AB087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F6970-3680-4BC6-AE55-C56F82EB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3A3F4-323C-4A84-BEA2-11F2FFD3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0E161-066F-4C62-A079-F0BB03D2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0C905-FFE8-43DF-92BA-1E2BD67E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29632-4CBB-4352-8A59-54B48571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1B1540-A55C-4501-BDE4-123E87A5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CE66-0986-4176-9CF2-B47E8452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80D77-9796-43C5-85A1-01215D77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3D733-3297-421A-8E35-F84480FB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F7F66-0B73-4DA9-90F7-BF11584B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37DF7-3AE7-42F1-90E3-F6D6F642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A8190F-4F17-476C-83C1-4CA34444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729F8-E74B-4130-9E97-5A0B6228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C5F98-6439-4C63-A371-4EC7A79B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9B5D1-5332-488E-9E1A-6A973851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08006-3A29-418E-A9AA-669BA9DD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D3701-FCF7-4590-A2D7-8C2A5C97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644F-2B7C-478E-B7FC-C362BC0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4FB693-85F0-4453-9C30-597D9DDB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3A459-54D4-442C-B834-9317C3AF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98E59-CF27-44CB-A36C-AA19ED36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28BDD-9021-4D36-A841-32BCB1B1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A9029-1B14-4E5A-B9C0-967E05A3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5ADB2-5A33-4834-91B9-242482C6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F2E5E-DD9D-4D68-9059-57322488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586B54-5019-418B-9DA4-82D0C04D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E9C4A-659D-44A0-8800-018518D0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D67EC-7CC6-4D39-BB59-3447618D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861-D740-4950-BE1C-E272CD58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9BD2-0CF0-40EB-BF2B-B9265205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DB49F3-B663-408C-9BD1-C204BAB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20100-658E-4AE0-9225-275A6162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CE800-FBA7-4DE7-BD03-AD8855B6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0D5FC-5252-4FE7-A6A1-E536490E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7882B-F9D5-44A2-A59A-CD887ECF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AAFDF-A940-433B-909F-69051919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48B01-521A-422D-B4CE-ED6FF956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7AC50-194F-429F-8CD0-11A8F28E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C218A-4A6D-4778-8B3C-1CFAC2A2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409E4-97C1-4433-8F71-F1611FD8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7848-3858-440E-A3DB-506BE39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0A428-4177-4126-9164-2A99FC12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64030-C71D-47A1-8FAD-11189254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230D6-3128-4D0B-9907-46904857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60285-FD0C-4AF7-83A9-92A348FA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46F6A-F49E-4276-A0FA-E080B081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5C404-4D3B-4CC6-A7A3-20250EF9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37538-EE7C-4219-9BD1-EFCFCF52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FB488-5052-4621-BC5B-36196263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38AB89-3F3C-4F97-A4FC-74B3BDF0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A79D1-A9DF-4126-A1CC-450A9DEF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9A39-4FC9-4B4F-9276-B147945A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5858D1-9584-49C5-A5FB-47A3BB09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AC913F-00DA-49FD-A6AE-5A263640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466BE-247F-4047-9858-0B2F170C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5F4EF-99B4-4481-89A2-32B878C1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645F73-732B-4F0C-AF3B-4B9DE43E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5CC52E-A634-45D8-99A5-3CC1C033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68C1A7-9E7D-413E-B85A-732B9912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DB710A-264C-4977-9DA5-0199AC00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19450-DA33-4AA4-B386-110202C0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5362A4-AA64-46D4-B611-ED16D7F4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911C-7B48-449E-921C-8C276314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9C95D-1F9D-4048-85BB-A722FBE6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92C5F2-A139-4448-A04A-9BE6D946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3778E6-C88E-4485-8C99-2B5EAEBC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F5D92-C85F-40C4-BD4F-7310C88A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F822F-EF78-4DBB-8184-B81DDC32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8B431A-649F-4054-9290-38EF0955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15B8C4-81FB-45FF-8119-7D0DD07F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A08BE1-8AE2-4FD9-A32B-6B0E9370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871D04-0E9D-4F2D-8388-A31C3F82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48278-5118-4619-81BE-1597169F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3593-601F-4DE2-BE57-425D9E52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77DC8A-1CA5-41B6-9481-9C9D08FE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35468-9C4C-4119-82B6-1182DB72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7F1C2F-E852-4E2A-84C4-8B22F931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34107D-0D67-417B-8373-E631D56F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24543-EF05-445A-9E43-218F7604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D0F3F5-4F08-4A4D-A2A2-D4FBE768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A780F5-9E37-41DB-B0BC-FE5A3C66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6AC104-AF9E-48FE-AB13-3C674966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78E52-1920-4388-827C-A0309A3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CD5D63-2E9E-4656-AC8A-41C095B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7729-BD48-49A7-A5BB-63F21436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C5AA7E-1C56-4B4F-8958-92313985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10B5B8-5115-49B7-99C2-C0F29882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53FA6-5F86-48FA-A114-4070C804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EEAB26-CB62-49DE-AF61-6C57EC69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49ECC1-F928-49C3-80CA-8CBA0448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442820-1E83-4036-93A4-3C09D66C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B4BC2E-C150-4197-8D65-FB666F53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A2875A-4674-4BE9-9F9D-E4C5B9D5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7869FB-49B8-416E-9EA9-FA6C5397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FD7A2E-1A8E-478C-89E4-8894F18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9D00-2671-4963-A4EF-4AF39BFA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8A01F1-5FAD-4BFD-949B-E5B0927E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E3B919-433F-40A8-BF43-3C130CBC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B2FC3A-4441-4A9D-8354-11AB0796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C4EE76-A4C4-406F-B861-88654387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345299-655A-438D-80B1-FA5B90EA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BF05DD-EA60-4069-8574-0590846D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5F3AC3-D0DD-4DEA-80B1-853099D1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8FC41E-EA93-401C-967E-75BD49F2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3DDB23-A485-4D99-9BFF-C5EAC07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5A2823-937F-4D8E-BE1C-7DEF4B3C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1E4C-B238-4A27-BAEE-D4849E94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338FF4-D14A-4D53-AC9B-142A5DE2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439F29-7208-4F20-B308-E972081C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6130C3-73C6-4292-9E98-16596DF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39DA0C-B07B-4371-8FED-571A90EF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18B59E-ECA1-4B3D-A0A3-6E576824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F49CB7-921D-450D-B4F7-D7FF3D05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165E73-DE4E-4EA5-8876-00AC083C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378C68-4287-4DC5-8BF0-0AFF9826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DA4FB0-7AD1-46FC-BFD1-C2457126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CF1718-D869-490B-AEB8-340B684C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B5381-C1E4-4D9B-8891-254D8C85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C42286-FAC0-45BF-9BAE-6BD78A61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63C3BC-7135-4EE1-9F28-5A9318C7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7F1BCB-834A-4DBE-97A1-6ABB5941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67EA5F-A042-488B-8F5B-C1E822D1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C1E6D4-27A8-4963-8167-151AD4EF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1BB987-33A2-491C-A992-BBB835CA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3E86C9-D5C5-459C-98FC-54DA5052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F982B4-9B7C-4197-8375-B09447B0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050C13-CAD5-4608-8B96-A4697220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EF3E9E-F769-46EC-80E7-BABA863F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1ABF-9864-43E7-B369-04EEF85D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3FDBDD-722C-45CB-B470-CA2BF122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3CCE9A-AB33-492C-8000-E4645D2B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189D71-3120-4C1B-95C7-73ACAC8F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F23F32-547A-4E6D-84B8-35D5BD65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5C9558-3847-4D05-92C1-7D869F50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803F29-BD4C-429A-B214-70BC4CC7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6BE7FC-CD69-4B4D-BD1B-B3DBD3D5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DFED68-9C2F-46A9-ABB5-1E361B37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F3D644-0903-4501-A32B-E3A3E295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2262AD-3C3F-46A7-BAF5-A1DBFB52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C71-A992-4245-92D6-A4EA0496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980E-0476-4207-A55E-03AC94D3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DCC225-725E-4964-907A-9CA93C01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EA4ABB-236A-43BD-AD8F-60593F10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D2BC60-BE10-41E2-9024-A6E224EE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48A9B3-29EF-4B06-B9FA-5BED8C49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96382C-1C98-4E87-A0E6-240F89FC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B0226B-4DE6-4ADC-B19F-8B998050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1CC5BB-FD31-4F97-B54E-149B71FF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54F3E1-AEC4-4DFC-81AC-1D998FC2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D94C51-282D-4E5F-83ED-B71F83D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1ECC0B-427E-45BA-964B-ED62F9B4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B1F4-F82F-4549-A79C-F55FB62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42EC6C-A910-438B-BA73-59701C43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E66EA8-393B-45BB-91E9-ACAEA1F0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B1DE86-7511-4F4A-8761-F03749D4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F4F185-3ED1-4CCE-A45E-6460E1E9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36489D-B576-4B4D-BACD-A7168547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7D3B07-11FF-4CE1-B226-2A7F8FCB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F56FC6-263C-4018-91B1-10C9F85C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59E5C2-F357-4F6E-BE7B-8AAE08BD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861361-FDA5-4DE5-A411-96064AA9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E3B756-3B43-4C60-88F0-7C772959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7059-D3C4-42D0-A6BB-B774A223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5FA190-0F43-4345-804C-5CE33737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BF5A45-A1AA-4CE6-B27B-20895F83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6478D2-B3E0-4790-9863-0BEF11ED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501667-5039-4CE0-B0A7-6573FCDF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A6558A-F244-42FE-8DB9-44576A0A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EAEDDD-E06D-4183-8CEE-CD15E208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152E92-5953-4AE3-A498-70833661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B8A515-8FC1-42B4-B07D-40B24115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D3B0A2-2C4E-47EB-83C7-004C706E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E75DE4-BA16-432F-8340-DE9E2603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30D3-92A2-4840-BC0C-C248134E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F7AD23-D095-45FB-BC34-3EBE9DA4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A0D7D6-AFDB-48D7-957D-7C1DC079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3B9300-0D8C-4705-9133-2D637F6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58BF96-F7CF-4AF4-98AC-2597272A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CB39F0-6E3E-46C5-BAA1-43F0B63B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DDD24D-3A12-4698-823C-839FD825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670A20-C87C-4D08-A70E-E4255F29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FA2F60-DA89-41AC-884F-E55299A5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383218-D26A-417B-9891-3B3D06AA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5D9EBA-F443-4338-8ED5-A268BF99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CFA4-5EDA-4799-8855-038B57F6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E859D5-923C-468F-B716-599DEAD4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FD7C33-6D57-468F-8C2E-C3DE3CDB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280907-0166-46F1-806E-830203B3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8923B6-818F-4D55-B5FC-EDE40C0C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256C2C-A15B-4EF9-A471-193BECF7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C51BDB-7AED-491E-AC3B-D9C23AE3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315480-0EAF-4509-A59C-D7ADBBAA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2E67D1-98BD-495A-BD01-51A2E37A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E77695-6A08-4056-85F7-D2D7290D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A158B8-4D61-47C1-AE99-0DB597D5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8AB8-6423-45DF-92A6-10D07FE3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6F0784-DD69-4B59-8486-27998D8D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DB2EE1-50FF-4111-95CA-F974F854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D99006-09E8-4073-88DC-9891DA12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A8D87B-E306-449F-A588-26E31E34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3615B2-0C95-4510-A07E-4F76A360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DF461B-6E08-4776-9199-EE7A7E90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4F5810-E151-46F6-9E01-790E9FAF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B754E4-62CB-4A45-99DB-68119E16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160B78-D5C7-461E-8522-36112781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1D0DDB-E103-4D11-9638-F52C57F9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71D2-CBAF-4C76-9E3E-5032705E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593B30-73E7-4CEF-B80B-24DB18D5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E968C6-A5C9-457B-ACC4-905DE259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1CDC1B-F57B-41CF-B3A2-FCAFC1F1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3F866F-962F-4EDB-9923-EDF75532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5ED293-FF70-4D46-BDA7-B8B191AC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ECEFB9-7289-49AD-ADB0-2620F4A2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9597D2-B29E-4AEE-8A73-980E595A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CB3492-8517-417D-A80E-300384A3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878283-D748-49C4-B830-28A0F189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A426A9-6620-4201-953B-0AB12330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9CB78-D970-408E-A325-648E7DB8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957CBB-4848-40FF-8C61-876ECC96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968F60-79A1-4234-832A-4CE8B649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6899A5-F2F1-40B4-81F3-FFD1D349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D36E-B218-4804-B8D9-88677315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F0BE-E85A-4790-BEFE-22424A5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628-7C49-40E6-8703-7D55DA6C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288B-07E1-45C9-9877-3FB60E36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523C-786B-4E9C-AD9A-81457ADD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6C9C-3E70-4C14-B6CC-75FA2BAD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61276-EB3F-4917-AD77-8CC26F6B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A2A6-C41C-40EF-AE5B-74300BFB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18002-D16B-46B4-930F-A9284B82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2F556-8AE8-4F63-9A13-FF468F51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AD095-84A5-4713-BCF7-5C5E51E8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B395F-B10F-4710-93BA-0BB5F090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384CD-8FFD-4408-94ED-20EDE9ED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2C3-F46F-4EB9-9395-A4099D94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7036B-0357-4B73-9AE3-498CDD22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8231-D56A-42A6-921F-13AC2B69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4B493-30ED-4506-ACC0-0FD3F713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3EB46-0110-498C-8083-0A238D3F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D3363-BA69-473D-BDFA-C2368FBD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F1FFF-2F47-4F1A-9F97-8AF5CC5C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BD614-3DB0-439E-8603-A6E0EFF6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A29FA-CC1A-45D4-9FCB-3F01A6E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46CE-6CE2-45B1-922E-8DD642DD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57468-1D31-4DA8-87C5-91F08D7A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BF9-A45B-44A4-8EFE-F3322936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FBB81-03B9-44FD-B482-19371F0F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276C0-CBB5-424D-A24F-B1E27EF3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1BA3D-CA00-42D6-9C53-559C5A27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1BBC-B94F-47F1-A82A-9A67B91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FCF21-FE97-4906-9C21-3FED9FDF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14D81-FF26-45F8-8A44-6CDBEC87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650D-DE6C-4BCD-B3A2-55191BBB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50C0-E1A1-44D9-8124-26DC05A9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26B9F-12F0-4EEA-96B4-BF91E8D1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2E639-FB07-4E69-A36C-AD195536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267-BB3C-41C8-957A-53592C88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4CA2F-CD27-4C23-AC64-0CD7398C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F47EF-DC7C-492C-A949-63E69263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6E4AA-A57B-4A74-8D82-BFC06E2E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61E61-0D45-4929-B2FC-D948EB78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7DDE0-8F50-4076-83F9-A513782D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EE640-9778-4FAE-B399-F0A7A430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DBA26-DAA5-480A-AD67-4544C40D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FE8A4-8C16-494A-B493-AFDFE049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DA952-D37E-40BF-B40E-C5DC5801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94150-65E2-4A37-939A-60631C43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1CD-788D-47F1-AC6C-D9B0DDF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A0F53-027B-4867-BE51-11881631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FE01C-3974-4E31-888E-246FA392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B2A13-45FD-44C0-B14C-A191E9E9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D0F8F-C09E-4CCB-8ED7-7A8605AD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2692D-5E05-4B0C-82AA-524CE5E5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274CE-ED74-405F-B44A-CA07CEF1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DED02-B18D-43D6-99E7-20B77F33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5B65E-4F22-4456-A46B-D1BD4DC8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F941D-4C24-4D1B-878E-02063DD2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98CA1-C1CC-439A-A88C-086A39E1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17A-36AE-4DD8-90BF-5E51C86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99EB8-7644-4219-88F6-ABB47274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03A01-93D1-4135-BA3A-C0703BD2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4ED08-AA78-4173-84F6-AEE21DD7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1A817-BB33-461A-90AB-F94B1AEA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54310-14B4-407B-9CE3-E78B519C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0C59D-2AC2-4596-A322-3B265288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F2771-07ED-4B7F-B16F-593D4BF4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7E658-AF8E-4142-8B18-65C34348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2B2AF-7C4B-4922-BA46-7D9D3DE3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AF9BE-8E78-4A08-B807-8365F9DA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D43F-4D25-42E6-8A98-4BD566D228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9405-54CF-4D9D-815C-FE4BF81075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B5E7-369D-4CD9-841F-17FB70164C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D100-6F1E-44EE-BDC5-7E0364DD30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F1E1-6841-4773-8608-D96F2CA266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13A0-8314-47BB-AFFF-B528F41581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4549-42AB-4AB7-AC56-C06141D8E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E870-5D1E-4AF8-8970-225B328AB8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4CEB-73D2-4AE0-8A42-237E4F0652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23B3-233C-49EB-A166-83B8EDC372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C914-6279-4AA8-8097-0E227726CB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0FBD-650D-43E3-B0A2-23D161B75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805C-4B0F-4A7D-8BA1-E38C6FC468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3056-1752-4D2E-A1AE-2B784B885B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5BDF-D673-4FA9-BD78-B4F2CC59A8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A07A-4954-4597-9F86-04F906AA09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BD10-7CB9-4AC4-BF58-30143C11D5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9B4B-C325-4D9D-B3D7-8C77AA9D8D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1151-C021-46F6-8433-E6E6B863C1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DC91-3A0F-4036-93F6-D3FBDD1256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8056-854A-4A57-A992-94B2B724AD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81BB-1EB0-48D2-847E-A831A0043D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05DC-AA82-42C7-8BFA-DCE76FB1AE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3CC8-70E6-4D43-9A9A-6FFCB4AF8B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F054-4A3E-448D-85CB-B5924CC736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823C-28E8-41CE-89B9-0C1B102DF4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AB93-7D61-44A5-B5A4-7FF11AFB2F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913B-E96B-4EF4-A0C2-298B5D29DF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3952-EA9F-42E7-8BC3-BE0DB7EEAF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C7D7-69B4-42F9-AC54-FF93CCA390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6AC3-D866-468F-B677-B1A7D2EB3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22FC-8362-4A7E-B67B-1173DD9C64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576E-A5B5-401A-BBDE-A3BBCDFD40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3269-E261-44C8-B7FE-0CD11CFEC4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5E67-D3F5-4618-ADCB-93374F3AC3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0094-D527-4C6B-B641-E9B786D183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B6EF-3CAA-4CC3-B50E-7657ABC5BE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3FF5-4016-4BFA-919F-C27CED81E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38AB-8884-43B7-BCD3-4024DDE478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05A3-145F-4443-842C-38250BB0F7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FB01-EEC4-40BF-9126-F928D2E98D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6DE9-A01F-4554-B1E6-C80EBF6BB4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426C-BB81-45ED-8654-B3D30E3B72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E670-15C9-4B98-913A-5A12E0BCBE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5743-09FF-4F5A-8C78-E2D0BB2792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2308-437D-49F3-83CE-E2AB897AD2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5DC4-16C9-4C5D-89C9-F762C085D9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4372-609A-4FB6-9753-C6E1030F67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2CF9-098F-4294-A333-B4339A6335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EE55-F626-4A11-ABFF-CCBF943BDE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642960" y="3110040"/>
            <a:ext cx="785808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79873" descr=""/>
          <p:cNvPicPr/>
          <p:nvPr/>
        </p:nvPicPr>
        <p:blipFill>
          <a:blip r:embed="rId1"/>
          <a:stretch/>
        </p:blipFill>
        <p:spPr>
          <a:xfrm>
            <a:off x="547560" y="942840"/>
            <a:ext cx="8048880" cy="4972320"/>
          </a:xfrm>
          <a:prstGeom prst="rect">
            <a:avLst/>
          </a:prstGeom>
          <a:ln w="0">
            <a:noFill/>
          </a:ln>
        </p:spPr>
      </p:pic>
      <p:sp>
        <p:nvSpPr>
          <p:cNvPr id="1449" name="矩形 79874"/>
          <p:cNvSpPr/>
          <p:nvPr/>
        </p:nvSpPr>
        <p:spPr>
          <a:xfrm>
            <a:off x="7885080" y="29973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78849" descr=""/>
          <p:cNvPicPr/>
          <p:nvPr/>
        </p:nvPicPr>
        <p:blipFill>
          <a:blip r:embed="rId1"/>
          <a:stretch/>
        </p:blipFill>
        <p:spPr>
          <a:xfrm>
            <a:off x="576360" y="1424160"/>
            <a:ext cx="799128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77825" descr=""/>
          <p:cNvPicPr/>
          <p:nvPr/>
        </p:nvPicPr>
        <p:blipFill>
          <a:blip r:embed="rId1"/>
          <a:stretch/>
        </p:blipFill>
        <p:spPr>
          <a:xfrm>
            <a:off x="419040" y="1519200"/>
            <a:ext cx="8305920" cy="3819600"/>
          </a:xfrm>
          <a:prstGeom prst="rect">
            <a:avLst/>
          </a:prstGeom>
          <a:ln w="0">
            <a:noFill/>
          </a:ln>
        </p:spPr>
      </p:pic>
      <p:sp>
        <p:nvSpPr>
          <p:cNvPr id="1452" name="矩形 77826"/>
          <p:cNvSpPr/>
          <p:nvPr/>
        </p:nvSpPr>
        <p:spPr>
          <a:xfrm>
            <a:off x="6904080" y="2811600"/>
            <a:ext cx="358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77827"/>
          <p:cNvSpPr/>
          <p:nvPr/>
        </p:nvSpPr>
        <p:spPr>
          <a:xfrm>
            <a:off x="2446200" y="4116240"/>
            <a:ext cx="6858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76801" descr=""/>
          <p:cNvPicPr/>
          <p:nvPr/>
        </p:nvPicPr>
        <p:blipFill>
          <a:blip r:embed="rId1"/>
          <a:stretch/>
        </p:blipFill>
        <p:spPr>
          <a:xfrm>
            <a:off x="514440" y="1504800"/>
            <a:ext cx="8115120" cy="3848400"/>
          </a:xfrm>
          <a:prstGeom prst="rect">
            <a:avLst/>
          </a:prstGeom>
          <a:ln w="0">
            <a:noFill/>
          </a:ln>
        </p:spPr>
      </p:pic>
      <p:sp>
        <p:nvSpPr>
          <p:cNvPr id="1455" name="矩形 76802"/>
          <p:cNvSpPr/>
          <p:nvPr/>
        </p:nvSpPr>
        <p:spPr>
          <a:xfrm>
            <a:off x="1312920" y="3468600"/>
            <a:ext cx="1098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76803"/>
          <p:cNvSpPr/>
          <p:nvPr/>
        </p:nvSpPr>
        <p:spPr>
          <a:xfrm>
            <a:off x="5199120" y="4145040"/>
            <a:ext cx="109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89089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00800" cy="5791320"/>
          </a:xfrm>
          <a:prstGeom prst="rect">
            <a:avLst/>
          </a:prstGeom>
          <a:ln w="0">
            <a:noFill/>
          </a:ln>
        </p:spPr>
      </p:pic>
      <p:sp>
        <p:nvSpPr>
          <p:cNvPr id="1458" name="矩形 89090"/>
          <p:cNvSpPr/>
          <p:nvPr/>
        </p:nvSpPr>
        <p:spPr>
          <a:xfrm>
            <a:off x="6665760" y="3449520"/>
            <a:ext cx="358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89091"/>
          <p:cNvSpPr/>
          <p:nvPr/>
        </p:nvSpPr>
        <p:spPr>
          <a:xfrm>
            <a:off x="1494000" y="4116240"/>
            <a:ext cx="250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89092"/>
          <p:cNvSpPr/>
          <p:nvPr/>
        </p:nvSpPr>
        <p:spPr>
          <a:xfrm>
            <a:off x="2217600" y="5450040"/>
            <a:ext cx="156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9011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77320" cy="5743800"/>
          </a:xfrm>
          <a:prstGeom prst="rect">
            <a:avLst/>
          </a:prstGeom>
          <a:ln w="0">
            <a:noFill/>
          </a:ln>
        </p:spPr>
      </p:pic>
      <p:sp>
        <p:nvSpPr>
          <p:cNvPr id="1462" name="矩形 90114"/>
          <p:cNvSpPr/>
          <p:nvPr/>
        </p:nvSpPr>
        <p:spPr>
          <a:xfrm>
            <a:off x="4465800" y="4068720"/>
            <a:ext cx="753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90115"/>
          <p:cNvSpPr/>
          <p:nvPr/>
        </p:nvSpPr>
        <p:spPr>
          <a:xfrm>
            <a:off x="2379600" y="4707000"/>
            <a:ext cx="754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90116"/>
          <p:cNvSpPr/>
          <p:nvPr/>
        </p:nvSpPr>
        <p:spPr>
          <a:xfrm>
            <a:off x="7647120" y="4707000"/>
            <a:ext cx="7538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90117"/>
          <p:cNvSpPr/>
          <p:nvPr/>
        </p:nvSpPr>
        <p:spPr>
          <a:xfrm>
            <a:off x="6608880" y="5373720"/>
            <a:ext cx="11318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91139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057880" cy="1409400"/>
          </a:xfrm>
          <a:prstGeom prst="rect">
            <a:avLst/>
          </a:prstGeom>
          <a:ln w="0">
            <a:noFill/>
          </a:ln>
        </p:spPr>
      </p:pic>
      <p:pic>
        <p:nvPicPr>
          <p:cNvPr id="1467" name="图片 91140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7686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92161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410160" cy="2590560"/>
          </a:xfrm>
          <a:prstGeom prst="rect">
            <a:avLst/>
          </a:prstGeom>
          <a:ln w="0">
            <a:noFill/>
          </a:ln>
        </p:spPr>
      </p:pic>
      <p:sp>
        <p:nvSpPr>
          <p:cNvPr id="1469" name="矩形 92162"/>
          <p:cNvSpPr/>
          <p:nvPr/>
        </p:nvSpPr>
        <p:spPr>
          <a:xfrm>
            <a:off x="1476360" y="227664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0" name="图片 92163" descr=""/>
          <p:cNvPicPr/>
          <p:nvPr/>
        </p:nvPicPr>
        <p:blipFill>
          <a:blip r:embed="rId2"/>
          <a:stretch/>
        </p:blipFill>
        <p:spPr>
          <a:xfrm>
            <a:off x="3276720" y="2205000"/>
            <a:ext cx="43434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93185" descr=""/>
          <p:cNvPicPr/>
          <p:nvPr/>
        </p:nvPicPr>
        <p:blipFill>
          <a:blip r:embed="rId1"/>
          <a:stretch/>
        </p:blipFill>
        <p:spPr>
          <a:xfrm>
            <a:off x="485640" y="1071720"/>
            <a:ext cx="817272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94209" descr=""/>
          <p:cNvPicPr/>
          <p:nvPr/>
        </p:nvPicPr>
        <p:blipFill>
          <a:blip r:embed="rId1"/>
          <a:stretch/>
        </p:blipFill>
        <p:spPr>
          <a:xfrm>
            <a:off x="766800" y="1481040"/>
            <a:ext cx="7610400" cy="3895920"/>
          </a:xfrm>
          <a:prstGeom prst="rect">
            <a:avLst/>
          </a:prstGeom>
          <a:ln w="0">
            <a:noFill/>
          </a:ln>
        </p:spPr>
      </p:pic>
      <p:sp>
        <p:nvSpPr>
          <p:cNvPr id="1473" name="矩形 94210"/>
          <p:cNvSpPr/>
          <p:nvPr/>
        </p:nvSpPr>
        <p:spPr>
          <a:xfrm>
            <a:off x="2700360" y="2133720"/>
            <a:ext cx="12128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4211"/>
          <p:cNvSpPr/>
          <p:nvPr/>
        </p:nvSpPr>
        <p:spPr>
          <a:xfrm>
            <a:off x="6033960" y="2800440"/>
            <a:ext cx="22831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94212"/>
          <p:cNvSpPr/>
          <p:nvPr/>
        </p:nvSpPr>
        <p:spPr>
          <a:xfrm>
            <a:off x="1386000" y="3467160"/>
            <a:ext cx="1241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94213"/>
          <p:cNvSpPr/>
          <p:nvPr/>
        </p:nvSpPr>
        <p:spPr>
          <a:xfrm>
            <a:off x="1728720" y="4124160"/>
            <a:ext cx="124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500040" y="852480"/>
            <a:ext cx="8143920" cy="515304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7885080" y="4221000"/>
            <a:ext cx="358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95233" descr=""/>
          <p:cNvPicPr/>
          <p:nvPr/>
        </p:nvPicPr>
        <p:blipFill>
          <a:blip r:embed="rId1"/>
          <a:stretch/>
        </p:blipFill>
        <p:spPr>
          <a:xfrm>
            <a:off x="795240" y="1085760"/>
            <a:ext cx="7553520" cy="4686480"/>
          </a:xfrm>
          <a:prstGeom prst="rect">
            <a:avLst/>
          </a:prstGeom>
          <a:ln w="0">
            <a:noFill/>
          </a:ln>
        </p:spPr>
      </p:pic>
      <p:sp>
        <p:nvSpPr>
          <p:cNvPr id="1478" name="矩形 95234"/>
          <p:cNvSpPr/>
          <p:nvPr/>
        </p:nvSpPr>
        <p:spPr>
          <a:xfrm>
            <a:off x="1547640" y="1773360"/>
            <a:ext cx="79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5235"/>
          <p:cNvSpPr/>
          <p:nvPr/>
        </p:nvSpPr>
        <p:spPr>
          <a:xfrm>
            <a:off x="1547640" y="3106800"/>
            <a:ext cx="79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95236"/>
          <p:cNvSpPr/>
          <p:nvPr/>
        </p:nvSpPr>
        <p:spPr>
          <a:xfrm>
            <a:off x="7472520" y="4449600"/>
            <a:ext cx="79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95237"/>
          <p:cNvSpPr/>
          <p:nvPr/>
        </p:nvSpPr>
        <p:spPr>
          <a:xfrm>
            <a:off x="1405080" y="5126040"/>
            <a:ext cx="2662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95238"/>
          <p:cNvSpPr/>
          <p:nvPr/>
        </p:nvSpPr>
        <p:spPr>
          <a:xfrm>
            <a:off x="4995720" y="5126040"/>
            <a:ext cx="2662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542880" y="1243080"/>
            <a:ext cx="8058240" cy="437184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2"/>
          <p:cNvSpPr/>
          <p:nvPr/>
        </p:nvSpPr>
        <p:spPr>
          <a:xfrm>
            <a:off x="7856640" y="2516040"/>
            <a:ext cx="3585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6018" descr=""/>
          <p:cNvPicPr/>
          <p:nvPr/>
        </p:nvPicPr>
        <p:blipFill>
          <a:blip r:embed="rId1"/>
          <a:stretch/>
        </p:blipFill>
        <p:spPr>
          <a:xfrm>
            <a:off x="514440" y="1785960"/>
            <a:ext cx="8115120" cy="3286080"/>
          </a:xfrm>
          <a:prstGeom prst="rect">
            <a:avLst/>
          </a:prstGeom>
          <a:ln w="0">
            <a:noFill/>
          </a:ln>
        </p:spPr>
      </p:pic>
      <p:sp>
        <p:nvSpPr>
          <p:cNvPr id="1438" name="矩形 86019"/>
          <p:cNvSpPr/>
          <p:nvPr/>
        </p:nvSpPr>
        <p:spPr>
          <a:xfrm>
            <a:off x="7790040" y="1763640"/>
            <a:ext cx="3585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84993" descr=""/>
          <p:cNvPicPr/>
          <p:nvPr/>
        </p:nvPicPr>
        <p:blipFill>
          <a:blip r:embed="rId1"/>
          <a:stretch/>
        </p:blipFill>
        <p:spPr>
          <a:xfrm>
            <a:off x="757080" y="1519200"/>
            <a:ext cx="7629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83969" descr=""/>
          <p:cNvPicPr/>
          <p:nvPr/>
        </p:nvPicPr>
        <p:blipFill>
          <a:blip r:embed="rId1"/>
          <a:stretch/>
        </p:blipFill>
        <p:spPr>
          <a:xfrm>
            <a:off x="533520" y="1814400"/>
            <a:ext cx="8076960" cy="3229200"/>
          </a:xfrm>
          <a:prstGeom prst="rect">
            <a:avLst/>
          </a:prstGeom>
          <a:ln w="0">
            <a:noFill/>
          </a:ln>
        </p:spPr>
      </p:pic>
      <p:sp>
        <p:nvSpPr>
          <p:cNvPr id="1441" name="矩形 83970"/>
          <p:cNvSpPr/>
          <p:nvPr/>
        </p:nvSpPr>
        <p:spPr>
          <a:xfrm>
            <a:off x="7846920" y="3259080"/>
            <a:ext cx="358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8294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24840" cy="188604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82946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7505640" cy="1247760"/>
          </a:xfrm>
          <a:prstGeom prst="rect">
            <a:avLst/>
          </a:prstGeom>
          <a:ln w="0">
            <a:noFill/>
          </a:ln>
        </p:spPr>
      </p:pic>
      <p:sp>
        <p:nvSpPr>
          <p:cNvPr id="1444" name="矩形 82947"/>
          <p:cNvSpPr/>
          <p:nvPr/>
        </p:nvSpPr>
        <p:spPr>
          <a:xfrm>
            <a:off x="7866000" y="26877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81921" descr=""/>
          <p:cNvPicPr/>
          <p:nvPr/>
        </p:nvPicPr>
        <p:blipFill>
          <a:blip r:embed="rId1"/>
          <a:stretch/>
        </p:blipFill>
        <p:spPr>
          <a:xfrm>
            <a:off x="468360" y="733320"/>
            <a:ext cx="8191440" cy="612468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1922"/>
          <p:cNvSpPr/>
          <p:nvPr/>
        </p:nvSpPr>
        <p:spPr>
          <a:xfrm>
            <a:off x="7812000" y="414972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0897" descr=""/>
          <p:cNvPicPr/>
          <p:nvPr/>
        </p:nvPicPr>
        <p:blipFill>
          <a:blip r:embed="rId1"/>
          <a:stretch/>
        </p:blipFill>
        <p:spPr>
          <a:xfrm>
            <a:off x="757080" y="681120"/>
            <a:ext cx="76298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9:29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